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6801-691D-4379-A2E6-B3425102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is temple of Diana of the Ephesians. An artists ren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3D1-6337-4760-A201-00A79465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8BA-B161-4E46-86B2-E5FD46B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5FF-A6F3-4CD4-9DF5-049B1795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FEB-2834-4E24-B86E-825E8913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DAB-D921-485A-8C17-1FEB6DFF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483-82F2-4EAE-987E-06CA51B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EA0-BB2E-4922-AF4E-AADD630C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82E-C7AB-45F5-ADCD-69FDDF3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D5B-8C15-43B0-AE12-E518EEB3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026-F2D3-4793-ACD4-0368B6C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B21-5C1D-494E-84BF-C0FCA8C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F1-2235-4BB1-B95D-A654CA3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B5B-CA05-4479-B64E-0953FC315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 Tell The Good News – Part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arter 12, Lesson 1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mmary of Ephesia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gs. 213-22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6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of God Make Better Children and Parents – 1-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of God Make Better Servants and Masters – 5-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hortations to Take God’s Provisions and Fight The Darkness of This World With Confidence In God And His Equipment – 10-2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ept of Ephesi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d’s Rich Blessings Bring Great Responsibiliti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god of this world and all the vain charms of the world are nothing compared to the power of God and His Kingdom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ul’s Life After The Book of Ac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ile in his first Roman Imprisonmen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wrote these letters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hes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ilipp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ssian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ilem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ritten in fall of 62 or Spring of 63A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o is emperor from 54-68A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1498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8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05280" y="2847960"/>
            <a:ext cx="5238720" cy="401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51055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2438280"/>
            <a:ext cx="175284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5638680"/>
            <a:ext cx="2590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chicus carr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ul's lett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rt Outline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d has given us every spiritual blessing in Christ – (1:1 – 3:21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refore live accordingly – (4:1 – 6:24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reation of the Body (Church) – 1:1-14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was planned by the Father – 1-6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was purchased by the Son – 7-1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is sealed (approved) by the Holy Spirit – 13-1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onsecration of This Body – 1:15-2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is the HEAD over all thing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we once were (2:1-3,11-12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Dead in si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Influenced by Sata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Controlled by lus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God did (2:4-7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oved u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iberated u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Lifted us up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How God did it (2:8-9,13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What we are now (2:10,14-22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roducts of His gra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artners in His bod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Pieces of His Spiritual Templ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he Mystery of God’s Plan Has Now Been Revealed – 3:1-1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Read it so you can understand i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nderstand it so you can enjoy i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aul’s Prayer For The Ephesian Brethren – 3:14-2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rengthen the inner ma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Know the love of Christ more full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Grasp more of the dimensions of God’s lov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4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 Tremendous Points of Unity -1-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pplies for maturity and stability – 7-16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lievers must avoid immoral lifestyles -17-1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lievers are to adopt a spiritual lifestyle – 20-3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phesians 5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Are Reflections of God’s Light  and Holiness– 1-2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edient Children Make Better Husbands and Wives – 22-3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3:03:49Z</dcterms:created>
  <dc:creator>Terry W. Benton</dc:creator>
  <dc:description/>
  <dc:language>en-US</dc:language>
  <cp:lastModifiedBy>Terry W. Benton</cp:lastModifiedBy>
  <dcterms:modified xsi:type="dcterms:W3CDTF">2007-02-25T04:24:27Z</dcterms:modified>
  <cp:revision>5</cp:revision>
  <dc:subject/>
  <dc:title>Go Tell The Good News – Part 2</dc:title>
</cp:coreProperties>
</file>